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B59-9CA5-494B-B41E-C75804B4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FF2-6DB7-40C1-9844-F56393A1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F7B-4A46-4151-B0A1-D4B30ACA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DF4-F26F-440B-AF88-9DA76A13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6DA-8431-4D5C-8C19-AF6E4F6A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8F24-7FEC-4A36-9D75-67B787CA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FF81-6B2F-431D-9158-F6CB6005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6BB-FE75-409E-92A3-1DBC8D7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89C-CE29-4B4C-9215-61A81863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43A2-1F06-4F9B-9653-A5CBDED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2003-4458-4E35-91CE-95D3DDF9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A41-3E1D-4A42-A67F-0C23C61E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BC3A-BAB8-4823-81B7-E3525D8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3959-E5C0-4DBF-AD1E-F4E26B5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A4A-D7D0-4E48-9908-0A52FB5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5C51-3843-4818-8550-6EBCB63D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F40E-749D-4B20-8F80-6004D5CC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BBB-D9B9-4BA0-8CC9-EA6841A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620-F2CF-4567-AB6A-672DD5DD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9FA-9C94-4F00-83C9-1284B97E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DB0-0F7B-4EBF-99C6-33048974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10F-3116-4AFB-B88D-1CD6B2D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2EE-BB6D-4EA9-8D18-8751006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12D-60B7-4EF1-BCAC-2E12219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0944-CEB5-448B-BD2E-3AA4B3A81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4B6-8717-478D-B548-A6DB9A09C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Ecologie" TargetMode="External"/><Relationship Id="rId2" Type="http://schemas.openxmlformats.org/officeDocument/2006/relationships/hyperlink" Target="http://ro.wikipedia.org/wiki/Ecosfer&#259;" TargetMode="External"/><Relationship Id="rId3" Type="http://schemas.openxmlformats.org/officeDocument/2006/relationships/hyperlink" Target="http://ro.wikipedia.org/wiki/Biotop" TargetMode="External"/><Relationship Id="rId4" Type="http://schemas.openxmlformats.org/officeDocument/2006/relationships/hyperlink" Target="http://ro.wikipedia.org/wiki/Biocenoz&#259;" TargetMode="External"/><Relationship Id="rId5" Type="http://schemas.openxmlformats.org/officeDocument/2006/relationships/hyperlink" Target="http://ro.wikipedia.org/wiki/Ap&#259;" TargetMode="External"/><Relationship Id="rId6" Type="http://schemas.openxmlformats.org/officeDocument/2006/relationships/hyperlink" Target="http://ro.wikipedia.org/wiki/V&#226;nt" TargetMode="External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b7"/>
                </a:solidFill>
                <a:latin typeface="Arial Black"/>
              </a:rPr>
              <a:t>ECOSISTEMU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364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În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ecolog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u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si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te o unitate de funcţionare şi organizare a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ecosfere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cătuită din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iot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şi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biocenoz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şi capabilă de productivitate biologică. Ecosistemul cuprinde şi relaţiile dintre biotop şi biocenoz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iotop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prezintă totalitatea factorilor abiotici (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ap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vânt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ia solară, clima, umiditatea) şi relaţiile dintre e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iocenoz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prezintă un nivel de organizare a materiei format din populaţii legate teritorial, şi pe studiul interacţiunii acestor populaţ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ecosistem nu are graniţe definite, astfel el poate avea dimensiuni foarte mari (deşertul Sahara), sau dimensiuni foarte mici (un iaz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628640"/>
          <a:ext cx="821844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08360" cy="583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743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b7"/>
                </a:solidFill>
                <a:latin typeface="Arial Black"/>
              </a:rPr>
              <a:t>Fişă de lucru</a:t>
            </a: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ro-RO" sz="2000" spc="-1" strike="noStrike">
                <a:solidFill>
                  <a:srgbClr val="3333cc"/>
                </a:solidFill>
                <a:latin typeface="Arial Black"/>
              </a:rPr>
              <a:t>1. Ce ecosisteme sunt reprezentate în imagine</a:t>
            </a: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?</a:t>
            </a:r>
            <a:br>
              <a:rPr sz="2000"/>
            </a:br>
            <a:r>
              <a:rPr b="0" lang="ro-RO" sz="2000" spc="-1" strike="noStrike">
                <a:solidFill>
                  <a:srgbClr val="3333cc"/>
                </a:solidFill>
                <a:latin typeface="Arial Black"/>
              </a:rPr>
              <a:t>2. Care sunt elementele de biotop şi biocenoză prezente</a:t>
            </a: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4259160"/>
                <a:gridCol w="42483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33880" cy="446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248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ISTEM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9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TOP</a:t>
                      </a: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ACTORI FĂRĂ VIAŢ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CENO</a:t>
                      </a: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- FACTORI CU VIAŢ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atori primari,.........,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2800" spc="-1" strike="noStrike">
                <a:solidFill>
                  <a:srgbClr val="ffffb7"/>
                </a:solidFill>
                <a:latin typeface="Arial Black"/>
              </a:rPr>
              <a:t>Aceste două componente ale ecosistemului se află în strânsă corelaţie, influentându-se reciproc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464920"/>
            <a:ext cx="80074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x- plantele, arborii-reduc intensitatea vântului prin coronament, iar vântul ajută la împrăştierea seminţe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nimalele- elimină în mediu excrementele, ce îmbogătesc solul în substanţe orga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Arial"/>
              </a:rPr>
              <a:t>Daţi alte exemple prin care să arataţi influenţa reciprocă dintre biotop şi biocenoz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Organizarea spaţială a mediulu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aţierea mediului poate f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 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orizontală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o-RO" sz="3200" spc="-1" strike="noStrike">
                <a:solidFill>
                  <a:srgbClr val="99ff66"/>
                </a:solidFill>
                <a:latin typeface="Arial"/>
              </a:rPr>
              <a:t>spaţii mic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vizuine, scorbura copacilor, muşuroaie de fur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o-RO" sz="3200" spc="-1" strike="noStrike">
                <a:solidFill>
                  <a:srgbClr val="99ff66"/>
                </a:solidFill>
                <a:latin typeface="Arial"/>
              </a:rPr>
              <a:t>spaţii mar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– cioturi de copaci, cadavrele unor animale m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 verticală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– în funcţie de înălţimea plante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unc</a:t>
            </a: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ţ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ile ecosistemului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. Funcţia de circulaţie a mater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2. Funcţia de circulaţie a energ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3. Funcţia de autoregl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8:18:54Z</dcterms:created>
  <dc:creator>nicolas</dc:creator>
  <dc:description/>
  <dc:language>en-US</dc:language>
  <cp:lastModifiedBy>nicolas</cp:lastModifiedBy>
  <dcterms:modified xsi:type="dcterms:W3CDTF">2007-10-23T08:55:35Z</dcterms:modified>
  <cp:revision>2</cp:revision>
  <dc:subject/>
  <dc:title>ECOSISTEMUL</dc:title>
</cp:coreProperties>
</file>